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BC7-B4E8-4736-8C54-7D804B70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C70-939B-41F8-8FA8-B380D84A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87C-61C1-42E9-92E2-B18AB0DA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B5F-6B96-4590-BD69-1092D6C6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947-E362-4727-B47E-F511847E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1C9-E34A-42AB-B6A7-3B424DEA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88A-45B6-4D34-B46C-89A1F71B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878-A8E2-40D9-8631-808F6614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2B3-47E1-438D-A232-4048247F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D23-F3E3-49B1-97CE-FDB618A2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3B2-4B78-4E32-90BB-C9377E8B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0CC-4328-416A-9353-CB2CB9DC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4E1B-91D9-4643-A47B-353E949F3D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ove’s D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en Had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20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oubloon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ing the nature of an illness or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utlook for the progress/outcome of an illness or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anish gold c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naph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u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hyming cou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tition of a word or phrase at the beginning of successive lines or cl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stanza of two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wo-line stanza with end-rhy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4:04:37Z</dcterms:modified>
  <cp:revision>8</cp:revision>
  <dc:subject/>
  <dc:title>La Belle Dame Sans Merci</dc:title>
</cp:coreProperties>
</file>